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0E4-9EE2-4F77-A23B-42336E3B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6183-719D-4A1C-A50A-0AA43FFB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BAA8-D656-40D6-A7D2-7D135C72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968D-F107-4CB6-94EB-11B723B5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5FDA-85C9-43C5-B7E6-9D8F7AE3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9C0B-D7CB-41B9-A57D-F1CD958D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18AF-E6F8-4803-A43A-F1FB69D4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2652-BF44-458F-9BC8-2FBA6AE1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22B7-7E37-4D52-975F-BFCD577C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086B-4E83-4A7A-89BF-369F5681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69FA-4C18-4404-B998-8F215D7F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92B-C49E-426D-AAE5-B6971A97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0C02-6F55-40D5-B00F-98A89B15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DAD6-F1EC-4F5A-BD72-C61FB702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4C5C-9C18-4187-8956-F8F649AB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8E4E-18A1-4F3F-A79A-8155C542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61DF-5BF5-4513-B557-FFAAD013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F60-A59D-4B0B-BA5B-8979B58E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3765-98DE-4C50-98D6-8905929E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153-60FA-470F-BD8E-D2BC56F7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C3A-5BE5-44D5-8F78-50A3DD2D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1329-8181-448E-85E5-DE3A6BD5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FA93-4920-4DF3-8E2C-220DC443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35B0-9562-4135-8211-DC4C9684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17FD-F57D-42F1-9003-FD881131FB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E9F8-C008-4924-A730-7B3A14FF79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riting a Strong Thesis Statement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 Three “P’s”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thesis statement includes three “P’s.”  It is 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your ess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xample of a Thesis with the Three “P’s”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for good friends to have excellent moral character; they should have a sense of loyalty, kindness, and depend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: The most important qualities of a good friend are sense of humor, being kind, and someone I can depend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ree </a:t>
            </a: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ong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three pro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your three examples from your “Examples of the Big Picture” colum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“Television can be educational; It helps you 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helps you 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remembe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gives you 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information from all over the wor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aralle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written in </a:t>
            </a:r>
            <a:r>
              <a:rPr b="0" lang="en-US" sz="2800" spc="-1" strike="noStrike">
                <a:solidFill>
                  <a:srgbClr val="c36c03"/>
                </a:solidFill>
                <a:latin typeface="Arial"/>
              </a:rPr>
              <a:t>parall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, which means they have the same grammatical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“Television can be educational; </a:t>
            </a:r>
            <a:r>
              <a:rPr b="0" lang="en-US" sz="3200" spc="-1" strike="noStrike">
                <a:solidFill>
                  <a:srgbClr val="c36c03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you learn, </a:t>
            </a:r>
            <a:r>
              <a:rPr b="0" lang="en-US" sz="3200" spc="-1" strike="noStrike">
                <a:solidFill>
                  <a:srgbClr val="c36c03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you remember, and </a:t>
            </a:r>
            <a:r>
              <a:rPr b="0" lang="en-US" sz="3200" spc="-1" strike="noStrike">
                <a:solidFill>
                  <a:srgbClr val="c36c03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you information from all over the worl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review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readers an idea of what the essay will be about (Your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big pic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“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Television can be educa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It helps you learn, It helps you remember, and it gives you information from all over the worl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ractice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rompt: Write a letter to parents about the effects of students working while finishing high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Question: What are the effects of work on students finishing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op three brainstormed answers (your example column in quote dissec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hree “P” the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ources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man, Brian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ing in Threes: the Power of Three in Wr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Fort Collins, CO: Cottonwood, 2005. Pr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5:20:43Z</dcterms:created>
  <dc:creator>CEC 287</dc:creator>
  <dc:description/>
  <dc:language>en-US</dc:language>
  <cp:lastModifiedBy>Hilary W</cp:lastModifiedBy>
  <dcterms:modified xsi:type="dcterms:W3CDTF">2011-10-28T17:55:02Z</dcterms:modified>
  <cp:revision>27</cp:revision>
  <dc:subject/>
  <dc:title>Writing a Strong Thesis Statement</dc:title>
</cp:coreProperties>
</file>